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F143-94B9-446A-9883-0D4849575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7217-FFF1-498A-9C21-BC8ACFCC2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8ED7-E297-4844-B898-55ED00D27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DD64-5376-474D-A201-87CEB6E84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B9F8-653B-4890-95E5-D129772BF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E918-B678-46C4-B027-F65F5336C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0575-D8C5-4F94-B41C-E9231AD71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1184-5D7E-4142-B7DC-C4E95C44A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58A6-B379-4FA7-A199-4D4C36A19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35D4-CFB6-4D0A-AD40-2FCC8F08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20AD-E404-4CDD-B846-F27B90F8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FB3A-BCE4-4477-B21B-984E6C16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BB6F6-117F-4C71-92A4-0B03C39AB1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PRĂJITURI CU FRIŞC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pentru calificarea Cofetar – Patiser,  Anul de completar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oord. Cristian Dincă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556000" y="4797360"/>
            <a:ext cx="37432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Sesiunea iunie - iulie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advTm="5000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2110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ăjiturile cu frişcă sunt prăjituri cu o structură eterogenă (în ceea ce priveşte suportul), iar în componenţa lor se foloseşte o mare cantitate de frişcă. Ele se pot prezenta fie la bucată (rotunde, tronconice, sub formă de scafă, pătrate, dreptunghiulare), fie ca piese întregi, paralelipiped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structura prăjiturii, frişca bătută îndeplineşte următoarele funcţii: componentă de umplere a prăjiturii, înlocuind sau completând crema; componentă a cremei, imprimând structura afânată; compon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entr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corare; furnizoare de factori nutritiv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hnologia prăjiturilor cu frişcă este variată, dar se impune respectarea următoarelor cerinţe: indiferent de funcţie, frişca se foloseşte bătută, iar baterea se face în momentul utilizării; dacă este o componentă a cremei, frişca trebuie însoţită de gelatină care are rolul de a stabiliza structura spumoasă; dacă este utilizată la decorare, se va turna cu puţin timp înaintea expedierii spre vânzare, cu poşul cu spriţ mare (pentru a evita eliminarea aerului şi a umidităţii prin presarea intensă a poşului)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treaga structură a prăjiturilor cu frişcă este un concentrat de factori nutritivi cu valoare biologică mare, proteine complete, lipide emulsionate, vitaminele liposolubile A şi D, substanţe minerale (Ca, P, Fe) glucide simp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rişca bătută, element de bază, participă la întregirea sau echilibrarea valorii alimentare a prăjituril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frişc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53964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comp_i"/>
          <p:cNvPicPr/>
          <p:nvPr/>
        </p:nvPicPr>
        <p:blipFill>
          <a:blip r:embed="rId1"/>
          <a:stretch/>
        </p:blipFill>
        <p:spPr>
          <a:xfrm>
            <a:off x="5508720" y="1557360"/>
            <a:ext cx="2676600" cy="2676600"/>
          </a:xfrm>
          <a:prstGeom prst="rect">
            <a:avLst/>
          </a:prstGeom>
          <a:ln w="0">
            <a:noFill/>
          </a:ln>
        </p:spPr>
      </p:pic>
    </p:spTree>
  </p:cSld>
  <p:transition advTm="5000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ăjituri cu frişcă cu su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cataif – cataif cu frişcă. Operaţii pregătitoar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cataifului cru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siropului [...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gătirea cataifului însiropat [...]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aluat dospit – Savarină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aluatului dospi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rţionarea aluatului în forme pentru savarine unse uşor cu ule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ospirea finală, coacerea la foc potrivit, scoaterea în stare caldă, răcirea. [...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coji indiene – Indiene cu frişcă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formizarea cojilor şi împerecherea lo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luidizarea fondantulu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mparea şi glasarea suprafeţei bombate pentru jumătate din numărul cojilor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pişcoturi de şampanie – Prăjitura Diplomat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jumătate din cantitatea de pişcoturi se taie în două, transversal (pe lăţime), se aşază pe platou pentru a se stropi cu 1/2 din cantitatea de lichior Triple sec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mogenizarea cremei şarlotă de vanilie cu răzătură de portocale şi fructe confiate asorta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ăierea fructelor confiate după scurgerea de sirop, pentru decorar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5000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b3s5</cp:lastModifiedBy>
  <dcterms:modified xsi:type="dcterms:W3CDTF">2012-06-18T11:05:40Z</dcterms:modified>
  <cp:revision>30</cp:revision>
  <dc:subject/>
  <dc:title>SALARIUL</dc:title>
</cp:coreProperties>
</file>